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024-9B1C-4FDB-BE6C-E7A7BC05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590-846A-4AC1-A919-256C1D8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36D-A29D-4ED2-8046-B84870FA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236-2181-4866-9046-E9513000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9AE-D191-4D64-A381-C82E05A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CA5-2B57-4AA9-804C-2494FFA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68F-F925-4C31-8A84-2788457B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A2D-80D3-4D28-9B3F-76166C7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4DE-FF62-4FD0-A5FD-E1D84ED8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680-0D50-4BF1-B12F-1C75124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18F-523C-4BB8-BB9D-A0AC26B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7F0-4721-4BA2-AAA9-8EE9B7D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90A-2BEC-4BC0-B774-7B194452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 Clase 6nh 602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4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onde es tu familia? ¿A donde 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6 (1-8) and WRITE if the sentence describes a CHARACTERISTIC or a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 (1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origen y coloca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Origin and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use the verb SER to tell where someone or something is from; its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rofesora ES de Puerto 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fé ES de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otros SOMOS de Boli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s bananas SON de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ú ERES de Nueva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SOY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 You use ESTAR to express where someone or something is located. ESTAR expresses both temporary and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lumnos ESTAN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drid ESTA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ESTOY en la clase de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los ESTAN en la cafe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 (1-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9718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5:54:16Z</dcterms:created>
  <dc:creator>Helen Zumaeta</dc:creator>
  <dc:description/>
  <dc:language>en-US</dc:language>
  <cp:lastModifiedBy>Helen Zumaeta</cp:lastModifiedBy>
  <cp:lastPrinted>2013-04-04T12:35:03Z</cp:lastPrinted>
  <dcterms:modified xsi:type="dcterms:W3CDTF">2013-04-04T14:03:02Z</dcterms:modified>
  <cp:revision>8</cp:revision>
  <dc:subject/>
  <dc:title>Me llamo _________  Clase 7 im La fecha es el 15 de abril del 2011</dc:title>
</cp:coreProperties>
</file>